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B5E-E606-4212-A7D6-28E4CB2D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B75-701A-4183-9A86-6251891C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C3C-BAC6-4937-AFFF-8249C80F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10B-7DDE-4466-8A2C-C07AB09F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06E4-592E-4DE7-812C-9DDF4772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6FC6-B5B3-4FC8-A4BF-175611FA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A51D-D100-4BC2-A3A2-C3D196F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B405-1F13-4623-8216-FF3C44D7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176B-B844-4E73-8B2E-9CD125E7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2858-0B6F-4338-969E-E7A80368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95B0-7AE7-456C-A374-CDB8B92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4D7-E328-4773-A2CE-7E900587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6B73-5368-4294-8F6B-44D93882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54AF-5C5B-441A-B1FB-04D118D5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0123-1695-4A7C-A49A-9FE996B5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7397-8DCC-4CC6-9126-1BB106AF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7CB5-081A-4CF2-BF94-2B19705A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AA0-3B24-463F-A42F-7474E87C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916-061E-4843-8897-DB6265F0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3CC-65FE-4D1A-912E-69B2CEE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F9B-20DA-4ABF-AF7D-79AC454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7D7-D2E5-4A47-A9AA-C26D2028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8D2-6156-4D7E-BF7D-C560A3B5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1EC-7DAB-4594-B0EE-1A511FCF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9D05-DECD-4BFB-985C-6995F44F67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5400"/>
            </a:gs>
            <a:gs pos="100000">
              <a:srgbClr val="f4be5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50000">
                  <a:srgbClr val="50732e"/>
                </a:gs>
                <a:gs pos="100000">
                  <a:srgbClr val="2a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f4be5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2a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a5400"/>
                  </a:gs>
                  <a:gs pos="100000">
                    <a:srgbClr val="f4be5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2a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9F32-4944-46D8-9AE4-266E59998F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Виды спорта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924000" y="5660640"/>
            <a:ext cx="507204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одготовила Пушкарёва Анаста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292720" y="158760"/>
            <a:ext cx="3527280" cy="125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6" name="Picture 4" descr="06-18_rus-swe_SM_14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3938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06-18_rus-swe_SM_19"/>
          <p:cNvPicPr/>
          <p:nvPr/>
        </p:nvPicPr>
        <p:blipFill>
          <a:blip r:embed="rId2"/>
          <a:stretch/>
        </p:blipFill>
        <p:spPr>
          <a:xfrm>
            <a:off x="5305320" y="2060640"/>
            <a:ext cx="36529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339408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Шв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9" name="Picture 4" descr="06-18_rus-swe_SM_27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4051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06-18_rus-swe_SM_22"/>
          <p:cNvPicPr/>
          <p:nvPr/>
        </p:nvPicPr>
        <p:blipFill>
          <a:blip r:embed="rId2"/>
          <a:stretch/>
        </p:blipFill>
        <p:spPr>
          <a:xfrm>
            <a:off x="5462640" y="907920"/>
            <a:ext cx="341784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Голланд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т матч стал, несомненно, лучшим футболом в исполнении сборной России за последние 20 лет. Встреча закончилась со счетом 3:1 в пользу России. Голы забили Павлюченко, Аршавин и Торбинский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16360" y="188640"/>
            <a:ext cx="4114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4" name="Picture 4" descr="1214164674_485e73b1cbca5"/>
          <p:cNvPicPr/>
          <p:nvPr/>
        </p:nvPicPr>
        <p:blipFill>
          <a:blip r:embed="rId1"/>
          <a:stretch/>
        </p:blipFill>
        <p:spPr>
          <a:xfrm>
            <a:off x="250920" y="260280"/>
            <a:ext cx="4270320" cy="5905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1214164736_485e74059d6e1"/>
          <p:cNvPicPr/>
          <p:nvPr/>
        </p:nvPicPr>
        <p:blipFill>
          <a:blip r:embed="rId2"/>
          <a:stretch/>
        </p:blipFill>
        <p:spPr>
          <a:xfrm>
            <a:off x="4711680" y="1052640"/>
            <a:ext cx="44323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4076280"/>
            <a:ext cx="3970080" cy="11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97" name="Picture 4" descr="1214164800_485e7542b1196"/>
          <p:cNvPicPr/>
          <p:nvPr/>
        </p:nvPicPr>
        <p:blipFill>
          <a:blip r:embed="rId1"/>
          <a:stretch/>
        </p:blipFill>
        <p:spPr>
          <a:xfrm>
            <a:off x="179280" y="189000"/>
            <a:ext cx="5329440" cy="3382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1214164748_485e73b1bf848"/>
          <p:cNvPicPr/>
          <p:nvPr/>
        </p:nvPicPr>
        <p:blipFill>
          <a:blip r:embed="rId2"/>
          <a:stretch/>
        </p:blipFill>
        <p:spPr>
          <a:xfrm>
            <a:off x="5327640" y="1557360"/>
            <a:ext cx="3516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000" y="158400"/>
            <a:ext cx="38988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олланд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0" name="Picture 4" descr="1214164795_485e7542b86ff"/>
          <p:cNvPicPr/>
          <p:nvPr/>
        </p:nvPicPr>
        <p:blipFill>
          <a:blip r:embed="rId1"/>
          <a:stretch/>
        </p:blipFill>
        <p:spPr>
          <a:xfrm>
            <a:off x="179280" y="189000"/>
            <a:ext cx="4278600" cy="56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1214164831_485e761c93941"/>
          <p:cNvPicPr/>
          <p:nvPr/>
        </p:nvPicPr>
        <p:blipFill>
          <a:blip r:embed="rId2"/>
          <a:stretch/>
        </p:blipFill>
        <p:spPr>
          <a:xfrm>
            <a:off x="4903920" y="981000"/>
            <a:ext cx="404496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По итогам этого турнира Россия получила бронзовые медали. 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203" name="Picture 4" descr="26907779_1213119785_AP080610014542"/>
          <p:cNvPicPr/>
          <p:nvPr/>
        </p:nvPicPr>
        <p:blipFill>
          <a:blip r:embed="rId1"/>
          <a:stretch/>
        </p:blipFill>
        <p:spPr>
          <a:xfrm>
            <a:off x="826920" y="1484280"/>
            <a:ext cx="78487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f2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4000" y="188640"/>
            <a:ext cx="79311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чу поблагодарить все футболистов сборной России за такой праздник, и пусть они так же радуют своих болельщико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4" descr="06-14_gre-rus_SA_13"/>
          <p:cNvPicPr/>
          <p:nvPr/>
        </p:nvPicPr>
        <p:blipFill>
          <a:blip r:embed="rId1"/>
          <a:stretch/>
        </p:blipFill>
        <p:spPr>
          <a:xfrm>
            <a:off x="1187280" y="1557360"/>
            <a:ext cx="727236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Футбол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борная России на чемпионате Европы 200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4" descr="1213609735_football_russia_grecia"/>
          <p:cNvPicPr/>
          <p:nvPr/>
        </p:nvPicPr>
        <p:blipFill>
          <a:blip r:embed="rId2"/>
          <a:stretch/>
        </p:blipFill>
        <p:spPr>
          <a:xfrm>
            <a:off x="5000760" y="1600200"/>
            <a:ext cx="333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Испан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Евро 2008 наша сборная играла с Испанцами два матча. Оба матча мы проиграли. Первую встречу со счетом 1:4, вторую 0:3. Следует заметить что Испанцы стали чемпионами этого турнир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741920" y="333000"/>
            <a:ext cx="422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68" name="Picture 4" descr="26907781_1213119800_AP080610014609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13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26907793_1213119825_AP080610014799"/>
          <p:cNvPicPr/>
          <p:nvPr/>
        </p:nvPicPr>
        <p:blipFill>
          <a:blip r:embed="rId2"/>
          <a:stretch/>
        </p:blipFill>
        <p:spPr>
          <a:xfrm>
            <a:off x="4356000" y="3624120"/>
            <a:ext cx="44910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640" y="333360"/>
            <a:ext cx="39592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- Испания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1" name="Picture 8" descr="26907814_1213119933_AP080610016315"/>
          <p:cNvPicPr/>
          <p:nvPr/>
        </p:nvPicPr>
        <p:blipFill>
          <a:blip r:embed="rId1"/>
          <a:stretch/>
        </p:blipFill>
        <p:spPr>
          <a:xfrm>
            <a:off x="179280" y="189000"/>
            <a:ext cx="4537080" cy="3416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26907795_1213119838_AP080610014955"/>
          <p:cNvPicPr/>
          <p:nvPr/>
        </p:nvPicPr>
        <p:blipFill>
          <a:blip r:embed="rId2"/>
          <a:stretch/>
        </p:blipFill>
        <p:spPr>
          <a:xfrm>
            <a:off x="4716360" y="3668760"/>
            <a:ext cx="44276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- Греция  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99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у встречу с греками мы выиграли со счетом 1:0. Главным героем встречи стал Константин Зырянов, который пушечным ударом забил гол. Следует отметить и Семака, который дал Константину пас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06-14_gre-rus_MEL_17"/>
          <p:cNvPicPr/>
          <p:nvPr/>
        </p:nvPicPr>
        <p:blipFill>
          <a:blip r:embed="rId2"/>
          <a:stretch/>
        </p:blipFill>
        <p:spPr>
          <a:xfrm>
            <a:off x="3924360" y="1557360"/>
            <a:ext cx="504036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3280" y="158760"/>
            <a:ext cx="381636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77" name="Picture 7" descr="06-14_gre-rus_SA_17"/>
          <p:cNvPicPr/>
          <p:nvPr/>
        </p:nvPicPr>
        <p:blipFill>
          <a:blip r:embed="rId1"/>
          <a:stretch/>
        </p:blipFill>
        <p:spPr>
          <a:xfrm>
            <a:off x="5078520" y="2205000"/>
            <a:ext cx="3813120" cy="4464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06-14_gre-rus_MEL_22"/>
          <p:cNvPicPr/>
          <p:nvPr/>
        </p:nvPicPr>
        <p:blipFill>
          <a:blip r:embed="rId2"/>
          <a:stretch/>
        </p:blipFill>
        <p:spPr>
          <a:xfrm>
            <a:off x="179280" y="0"/>
            <a:ext cx="44244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40000" y="158760"/>
            <a:ext cx="454644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3f2d9"/>
                </a:solidFill>
                <a:latin typeface="Arial"/>
              </a:rPr>
              <a:t>Фотографии с матча Россия – Греция.</a:t>
            </a:r>
            <a:endParaRPr b="0" lang="en-US" sz="2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80" name="Picture 4" descr="06-14_gre-rus_SA_25"/>
          <p:cNvPicPr/>
          <p:nvPr/>
        </p:nvPicPr>
        <p:blipFill>
          <a:blip r:embed="rId1"/>
          <a:stretch/>
        </p:blipFill>
        <p:spPr>
          <a:xfrm>
            <a:off x="250920" y="189000"/>
            <a:ext cx="3695760" cy="38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06-14_gre-rus_SA_33"/>
          <p:cNvPicPr/>
          <p:nvPr/>
        </p:nvPicPr>
        <p:blipFill>
          <a:blip r:embed="rId2"/>
          <a:stretch/>
        </p:blipFill>
        <p:spPr>
          <a:xfrm>
            <a:off x="4067280" y="3332160"/>
            <a:ext cx="49291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атч Россия – Швеция.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этом матче Россия обыграла шведов со счетом 2:0. Голы забили Аршавин и Павлюченко. Также стоит выделить Игнашевича, который удачно сыграл против главного бамбордира сборной Швеции Ибрагимович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4" descr="06-18_rus-swe_SM_18"/>
          <p:cNvPicPr/>
          <p:nvPr/>
        </p:nvPicPr>
        <p:blipFill>
          <a:blip r:embed="rId2"/>
          <a:stretch/>
        </p:blipFill>
        <p:spPr>
          <a:xfrm>
            <a:off x="4211640" y="1628640"/>
            <a:ext cx="460836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3:13:56Z</dcterms:created>
  <dc:creator>USER</dc:creator>
  <dc:description/>
  <dc:language>en-US</dc:language>
  <cp:lastModifiedBy>Ирина Петровна</cp:lastModifiedBy>
  <dcterms:modified xsi:type="dcterms:W3CDTF">2009-08-17T15:14:46Z</dcterms:modified>
  <cp:revision>4</cp:revision>
  <dc:subject/>
  <dc:title>Слайд 1</dc:title>
</cp:coreProperties>
</file>